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C2F0-1CE1-49E3-8C7E-8D26C08DB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9B22-853B-48DE-8662-C1CC0E97A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46F-B9EA-46CC-9A4A-2F1E8265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A09-E4BE-4F1A-BD15-0D9B06AE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F63-FD50-46C9-BEB1-E5E0B639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8F6-6F48-43DA-8A91-3992AA59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01F-A577-4240-9181-54DAF78A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656-D95E-408A-8CCF-FD4CF167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3F6-E265-4D53-B471-8D9A50DB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54C-FB8E-41C3-82D5-624BC2DC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20C-FCC6-48EF-935B-4BDD8AA4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7E1-7148-48AC-A641-297EA70D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934-150A-46B0-A7AB-661D9D8C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E09-E823-45C6-B1C2-3E244618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7523-52A5-4FDB-A5ED-F355AB929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1.png"/><Relationship Id="rId9" Type="http://schemas.openxmlformats.org/officeDocument/2006/relationships/image" Target="../media/image5.jpeg"/><Relationship Id="rId10" Type="http://schemas.openxmlformats.org/officeDocument/2006/relationships/image" Target="../media/image1.png"/><Relationship Id="rId11" Type="http://schemas.openxmlformats.org/officeDocument/2006/relationships/image" Target="../media/image5.jpeg"/><Relationship Id="rId12" Type="http://schemas.openxmlformats.org/officeDocument/2006/relationships/image" Target="../media/image1.pn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Zena Youss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Zena Youss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Zena Youssef (57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0574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Por qué yo soy muy alta? :/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ia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52424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llamo Zena! Yo  vivo en los Estados Unidos. Yo Tengo catorce     añ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77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562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Si! Yo te cocino un pastel! ¿Qué sabor quires? Kiara esta comprando refrescos.  Y y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4 minutes ago   December 6, 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32767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 gracias, hermosa Zena! Yo estoy bien. Yo estoy emocionada por mi cumpleaños mañana!       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5 minutes ago   December 6, de 2012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uenos dias, bonita Noureen!  Como estas? </a:t>
            </a:r>
            <a:r>
              <a:rPr b="0" lang="en-US" sz="8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1 hour ago.     Deci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2  minutes ago   December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51814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40 minutes ago     December 6,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958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5 minutes ago      December 6,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613080" y="6477120"/>
            <a:ext cx="62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Screen shot 2012-11-29 at 10.49.49 PM.png"/>
          <p:cNvPicPr/>
          <p:nvPr/>
        </p:nvPicPr>
        <p:blipFill>
          <a:blip r:embed="rId1"/>
          <a:stretch/>
        </p:blipFill>
        <p:spPr>
          <a:xfrm>
            <a:off x="90360" y="609480"/>
            <a:ext cx="1814760" cy="1524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4" descr="Photo on 2012-12-03 at 20.56.jpg"/>
          <p:cNvPicPr/>
          <p:nvPr/>
        </p:nvPicPr>
        <p:blipFill>
          <a:blip r:embed="rId2"/>
          <a:stretch/>
        </p:blipFill>
        <p:spPr>
          <a:xfrm>
            <a:off x="152280" y="5257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3393_449325755108868_272922463_n.jpg"/>
          <p:cNvPicPr/>
          <p:nvPr/>
        </p:nvPicPr>
        <p:blipFill>
          <a:blip r:embed="rId3"/>
          <a:stretch/>
        </p:blipFill>
        <p:spPr>
          <a:xfrm>
            <a:off x="8380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228569_495140737182310_2133635340_n.jpg"/>
          <p:cNvPicPr/>
          <p:nvPr/>
        </p:nvPicPr>
        <p:blipFill>
          <a:blip r:embed="rId4"/>
          <a:stretch/>
        </p:blipFill>
        <p:spPr>
          <a:xfrm>
            <a:off x="1371600" y="5245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Photo on 12-4-12 at 9.00 AM #2.jpg"/>
          <p:cNvPicPr/>
          <p:nvPr/>
        </p:nvPicPr>
        <p:blipFill>
          <a:blip r:embed="rId5"/>
          <a:srcRect l="65001" t="23753" r="0" b="835"/>
          <a:stretch/>
        </p:blipFill>
        <p:spPr>
          <a:xfrm>
            <a:off x="762120" y="59436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9" descr="255454_485362224809992_722496303_n.jpg"/>
          <p:cNvPicPr/>
          <p:nvPr/>
        </p:nvPicPr>
        <p:blipFill>
          <a:blip r:embed="rId6"/>
          <a:stretch/>
        </p:blipFill>
        <p:spPr>
          <a:xfrm>
            <a:off x="152280" y="5943600"/>
            <a:ext cx="457200" cy="534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hoto on 12-4-12 at 9.00 AM #2.jpg"/>
          <p:cNvPicPr/>
          <p:nvPr/>
        </p:nvPicPr>
        <p:blipFill>
          <a:blip r:embed="rId7"/>
          <a:srcRect l="65001" t="23753" r="0" b="835"/>
          <a:stretch/>
        </p:blipFill>
        <p:spPr>
          <a:xfrm>
            <a:off x="2209680" y="320040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Screen shot 2012-11-29 at 10.49.49 PM.png"/>
          <p:cNvPicPr/>
          <p:nvPr/>
        </p:nvPicPr>
        <p:blipFill>
          <a:blip r:embed="rId8"/>
          <a:stretch/>
        </p:blipFill>
        <p:spPr>
          <a:xfrm>
            <a:off x="2057400" y="2590920"/>
            <a:ext cx="635040" cy="533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Photo on 12-4-12 at 9.00 AM #2.jpg"/>
          <p:cNvPicPr/>
          <p:nvPr/>
        </p:nvPicPr>
        <p:blipFill>
          <a:blip r:embed="rId9"/>
          <a:srcRect l="65001" t="23753" r="0" b="835"/>
          <a:stretch/>
        </p:blipFill>
        <p:spPr>
          <a:xfrm>
            <a:off x="2209680" y="4495680"/>
            <a:ext cx="381240" cy="547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Screen shot 2012-11-29 at 10.49.49 PM.png"/>
          <p:cNvPicPr/>
          <p:nvPr/>
        </p:nvPicPr>
        <p:blipFill>
          <a:blip r:embed="rId10"/>
          <a:stretch/>
        </p:blipFill>
        <p:spPr>
          <a:xfrm>
            <a:off x="2057400" y="38862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Photo on 12-4-12 at 9.00 AM #2.jpg"/>
          <p:cNvPicPr/>
          <p:nvPr/>
        </p:nvPicPr>
        <p:blipFill>
          <a:blip r:embed="rId11"/>
          <a:srcRect l="65001" t="23753" r="0" b="835"/>
          <a:stretch/>
        </p:blipFill>
        <p:spPr>
          <a:xfrm>
            <a:off x="2133720" y="61722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Screen shot 2012-11-29 at 10.49.49 PM.png"/>
          <p:cNvPicPr/>
          <p:nvPr/>
        </p:nvPicPr>
        <p:blipFill>
          <a:blip r:embed="rId12"/>
          <a:stretch/>
        </p:blipFill>
        <p:spPr>
          <a:xfrm>
            <a:off x="1981080" y="5105520"/>
            <a:ext cx="63504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1" descr="59388_469609556415682_1274901906_n.jpg"/>
          <p:cNvPicPr/>
          <p:nvPr/>
        </p:nvPicPr>
        <p:blipFill>
          <a:blip r:embed="rId13"/>
          <a:stretch/>
        </p:blipFill>
        <p:spPr>
          <a:xfrm>
            <a:off x="1219320" y="5943600"/>
            <a:ext cx="533160" cy="5349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3"/>
          <p:cNvSpPr/>
          <p:nvPr/>
        </p:nvSpPr>
        <p:spPr>
          <a:xfrm>
            <a:off x="1145520" y="647712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75"/>
          <p:cNvSpPr/>
          <p:nvPr/>
        </p:nvSpPr>
        <p:spPr>
          <a:xfrm flipH="1">
            <a:off x="1902960" y="2438280"/>
            <a:ext cx="1800" cy="4268880"/>
          </a:xfrm>
          <a:prstGeom prst="line">
            <a:avLst/>
          </a:prstGeom>
          <a:ln w="25560">
            <a:solidFill>
              <a:srgbClr val="bfc4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49:55Z</dcterms:created>
  <dc:creator>FriscoISD</dc:creator>
  <dc:description/>
  <dc:language>en-US</dc:language>
  <cp:lastModifiedBy>User</cp:lastModifiedBy>
  <dcterms:modified xsi:type="dcterms:W3CDTF">2012-12-07T14:05:46Z</dcterms:modified>
  <cp:revision>112</cp:revision>
  <dc:subject/>
  <dc:title>Profile</dc:title>
</cp:coreProperties>
</file>